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EC2-8A4E-4EF9-B2FA-E782FA0B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0798-DDB0-4C77-8E46-685E1F19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75B30-CA5B-47D6-98DF-F6A59BAE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065E4-4466-4230-A523-431EE43B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EAFC2-6006-4630-8A13-083E90AD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DDF2A-3488-49E6-84FB-0D5E538F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6A72C-252D-4613-B083-6CD1906F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5666D-9C73-49D0-9BEA-FF89A58B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917E1-10D1-41AD-B7DB-D27E1F13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38539-4539-493D-87F5-D5F226B8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A94C3-D20C-4790-8C1D-3AF13BE1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310D0-069F-4741-8DD4-969DE9F9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2036-6633-4D10-98EC-68B9B2E5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63543-081E-44C8-B878-598D64C7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9B89D-4229-4E83-BFB4-A2E8A98C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780D9-707A-4503-B414-4B1042AA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31617-0C19-41C0-99AF-668BD4B5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45020-CAFC-4E4F-8727-ED246CE0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A3D57-4ECE-4C73-BA15-720DFD46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1F931-B06C-45D6-A080-1A8AF6A2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D48EB-D163-4D62-9B97-380FDF1E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086E4-C0D1-43AF-8634-40D31736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18C67-D8D8-41C9-9E0F-B2289281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D884-E6CD-4643-AA5F-446B1750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67475-F691-439D-B6B5-FF413752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B27BD-41ED-4283-BCC5-DFCC9BEA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E9CD8-F968-43E9-B3B3-5233BA17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1A04B-3B3B-4BFE-BFE1-A40D90E9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2EC37-63F6-4673-AADA-691F3B4C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BE830-EE69-4EC4-9F06-5029F6E9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A5927-FFEB-41C7-BD2A-63B54FC5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8922B-581A-4007-AA89-82E15D4F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2C55E-66D6-4B1E-9F92-26DDFF0B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B8E68-7D47-49AC-B436-918B3589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BDE8-4660-49B5-9714-41EF7D2B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F9624-330C-4DC4-8F5C-8D28D2DE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D2089-6DB1-4FCB-9FB1-57002576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18FB2-4296-493F-AFD8-3975D9B9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302C9-DD74-4075-BB1C-55C7B744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1F4D7-AACB-49CF-BF93-2C9EBA58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723D2-2984-4396-B3A0-82CFECBE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140CA-27FF-45E7-A4A6-3C2157FC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53D56-F189-49FC-B8C7-6C343C75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8523A-9B7B-4AC1-B902-93B24C36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E954B-6658-414B-A78B-26E52D2B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6205-B6F5-403D-99EB-0632B64C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52346-B90A-42D5-8858-4B18311C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724BC-138F-4A75-8E82-CC7F7093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6FA1D-CF2B-4759-9A1B-571D0E6B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B7F31-E5DC-4676-95D7-D8F97494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CC715-A8BD-4807-B780-12F4F90B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4EF4-1E94-496B-B129-D5AC4FFC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BF68-BDD1-4EAD-9435-60910190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4511-515E-4C1F-BEF8-5A58C3F1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C016-4CAD-4E8E-8DB2-4177A6CD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60ED-AB04-4EB8-9458-9489B5B3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E198-6A86-4887-98B2-BA270CAF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55A0-9445-43D8-814F-4BC7B3C7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8558-2A0B-49D0-AFAC-43D3ECE8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7548-0F79-42DE-B467-0B60C534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B5CB-C722-4A72-8160-56B661F7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100B-DFE1-401F-A870-1EAD21ED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2FEEE-6002-4A50-8353-324F17B2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388DC-AF37-46EB-A2F8-2C0785FC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A4275-CF7E-4E27-BAAD-8B9B6BE8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1460A-4D24-4CB8-84AB-BFF3DC48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2BE48-8596-457D-9903-57A6688C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019-6ADC-49AD-B1FB-1C0A8137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EE249-3C11-4DFB-97B2-F6AA5D8A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3043E-4E55-43C9-B4CE-006E4CED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33E97-BD0A-4AE5-BEAB-79ADE16D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4B20F-F642-433B-AF1E-C6678479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39C29-4707-410D-A103-5F0DC61F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4C4F2-0905-4A68-9A08-9033C305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FFA5F-0B3E-4B11-8329-37CFE488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EE792-2C01-4E03-AA24-8D547E1F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163BC-4A0A-4A4D-97FE-81510E93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E3A45-B629-4281-92B7-53BEA959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659-88BC-4E4A-B226-0F63C157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25D86-FFF6-4405-9319-C7217D93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65EED-F078-4419-9A88-3266A576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283FD-1A0D-47FD-BD31-C4259E5D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4F9FE-5578-4F95-80C8-109D539D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14F0F-1E4A-4B9E-B2C8-0AF0B844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7041C-33BE-4088-9386-ADB75625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9D55B-BDD4-421E-8A80-867CC841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5D578-A490-43F3-AD8A-6F9C0317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EE2B0-0380-414B-A5E9-7809C2C9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743C5-9BD5-42AC-997D-2D888021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7BB3-6AF1-457F-B48B-070CF6F1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F9325-084B-4EE3-84FB-239A1C9A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232EF-95EB-4B18-8D42-6DDE1479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58BD7-3E37-4E6F-B009-29EDF42B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9120C-B72F-42B4-A47D-40F3B85C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53076-9798-495E-BAD9-5C49CF53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5004D-B61C-4551-B8FC-1A00F85B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CDC2E-36FB-44A1-BCCD-712CFB10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72AE9-4BCB-40AF-A4E6-30A1CA8F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4C622-44FA-47ED-B371-E9DDD73A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7934A-CDA5-47DC-AC37-6A538BC3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4757-D9EF-4E46-96C8-24F8354D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DB8B3-0652-4876-94EC-89666C9F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D3CAE-A5DB-4F9A-95D7-AC0DA98D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A0D9E-0151-4B39-93BA-52F1B942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93653-88E8-4938-B205-8F496DE1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20881-121E-458A-B785-824D57DA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9AFF9-FC31-40E6-80A4-F3DEA5CE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8A3B0-51C2-40ED-B499-04B2B093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3217C-74F9-4F23-9E62-FCDD6138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3BA51-A6CA-4362-A45E-5FB7D091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02356-0F27-4832-AAAA-4026D14E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7AF1-20F2-4090-9B53-45110FDF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C2D78-ED64-4B5E-92E7-00F504EA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1695E-DA61-4967-BB32-AFDD1CD5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0EC0E-8FF3-45AD-BEAF-8A6FF54C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F0DAE-600A-4019-86D8-4B76B370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D8C1C-BC39-4293-8645-9E0735EE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EED7B-39ED-40D9-B078-40A52A25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69FD2-D00D-445C-A397-6FAC3389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70AD2-304A-4BDF-B187-B9D72EB6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B0022-F51E-48E3-A524-A8C63570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67EB1-94B5-40A0-A7A1-139E8CD4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A50F-775A-4E0A-8E69-F7BE45BA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7E475-7C55-417C-9B11-F790BC30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3B8F1-127D-42A1-A596-E8FF2AC6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D753F-D0AA-4068-BADF-2F5275B5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52509-BBE1-4C5D-8D1B-EA2ACEDD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92C77-D2A4-4DEC-9BFB-84FE0A47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CEEE5-9CF2-4790-92F1-EAACCEEA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77D86-2D0C-4E1D-92A2-5DC1B108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787F6-0086-4B99-980B-5B42CB62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0860E-726B-4A91-8BF1-F0F1E8CA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8B04A-F2CC-40BA-B21B-59AB5CB7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E5C-110D-4387-A983-5B198E6D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BA0B9-2252-4354-9FFA-BBF1EE7A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97A5B-E48A-4890-B166-C16EF876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5B3DC-7132-4EEC-808E-76F6F1D7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EBD11-96C4-4272-9943-18EC4875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0FEE3-6001-4C28-9027-94F420FC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333E0-3368-4270-B060-60FDB05B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EC40E-9A71-4ED5-898C-8D57A214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225BD-8726-4453-8C6D-C51865F3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9222A-514C-43C6-A165-67ED9F5F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6B07B-1874-4B64-B822-4133655A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480A-29AB-4DD3-92B7-7F4EA9D5822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889C-3902-4C4E-AE85-D3388F76270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F5B7-8526-4F4F-921B-7B01CFE47A4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7F55-9970-40E9-9BE5-EA08B3A93DC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3C40-4593-4BD1-9FD0-F1D4BAB384C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D6CB-C989-4E60-A468-93AF822D37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1C58-6318-40DC-A188-605FC4D82E6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3734-B374-4C51-A5EB-C0000DCE92B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83F1-AA4D-4E65-9BF5-0B81C602660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172C-0B1C-483A-917E-569C5B27720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CBA1-AD78-4AD0-AA4A-7B9A169212D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AFCB-0723-4D6B-B46C-FF798191C00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79 Môj drahý Otec nebesk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drahý Otec nebesk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 v nebi trón svoj kráľovsk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tom aj na mňa pamä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každé dieťa s láskou db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tom aj na mňa pamä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každé dieťa s láskou db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každom vrabčekovi v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celým tvorstvom stále bd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ieva krásou nežný kv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tvoril z lásky celý svet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ieva krásou nežný kv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tvoril z lásky celý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spadne z mojej hlavič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ni len vlások maličk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ktorom on by neved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mňa má rád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om poznať sme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ktorom on by neved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mňa má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som poznať sm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v srdci mojom prebý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a mi svojho darova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vďačnosti kráčam za ním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ôverujem mu deň čo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vďačnosti kráčam za ním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ôverujem mu deň čo deň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54:17Z</dcterms:modified>
  <cp:revision>81</cp:revision>
  <dc:subject/>
  <dc:title>Je veľký náš Pán, on slávy je Kráľ Nech do všetkých strán  spev vrúcnych znie chvál.</dc:title>
</cp:coreProperties>
</file>